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6FC-0157-44F1-AFE4-A6827FF0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456-A675-42A4-9F54-6EA9B6AC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3BD-3427-4283-A917-81170242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554-BE11-4E57-B0C3-C20272B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2667-4565-424A-9E30-9B59CFC6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D196-251D-4B96-8E30-AC9C0732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313-CB38-48C1-8F38-A324DBB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631-EE9C-4902-BA27-51B548C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53D3-9BD0-479C-B3DD-39C75B0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1D0-F79A-4742-AC68-9EEA8C8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89D3-CBC3-42CC-8CB5-4A46832C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6DC-E9EA-489E-8DC7-F853A985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EBB4-0E83-46DA-9D58-0D4422D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E06-2162-4BEB-BD49-1C654AC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5FB7-00F1-43E6-BB0F-31D3013B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CF7C-4CF7-4CF1-83D4-7085BE61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0F7E-7F30-4FA3-96AA-8F0BA977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F6F-527C-4AB0-A38F-12677B9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8F3-1081-40E7-8DF4-789255EC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227-BC9E-4E00-9130-A7C0BE6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AE4-F742-42FA-9178-39799511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EB2-B36F-447C-A490-7EF6563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E18-5796-4FC2-8E91-A80492F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2E3-2393-4343-B878-3E8CD9F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BA69-E9FF-4603-BD09-74F920ED7604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DFD4-094C-4CB3-8045-932EA5153F8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876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طوبى 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للساعين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، يحفظ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وبَكم وأفكارَك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ـمسيحِ يسوع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76520"/>
            <a:ext cx="525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يصفح بعض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عن بعضٍ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كما صفحَ اللهُ عن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فـي الـمسيح.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ذهَبْ وصالِحْ أخاكَ ثمَّ عُدْ وقرِّبْ قربانَك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3:44Z</dcterms:created>
  <dc:creator>Charbel Azar</dc:creator>
  <dc:description/>
  <dc:language>en-US</dc:language>
  <cp:lastModifiedBy>Charbel Azar</cp:lastModifiedBy>
  <dcterms:modified xsi:type="dcterms:W3CDTF">2006-03-07T21:42:12Z</dcterms:modified>
  <cp:revision>11</cp:revision>
  <dc:subject/>
  <dc:title>PowerPoint Presentation</dc:title>
</cp:coreProperties>
</file>